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A87-E14F-4B20-9273-6D4E366A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754-AFBC-4C24-ADE0-41871A23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441-1EB9-4531-9951-5B61B850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3C8-1EF8-452D-BA82-BD6F0090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18E-534B-4D4B-81A6-50D0FC14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0C2-8DCE-40E3-A86A-6063A707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F4F-17A5-4F97-8B51-6387B6F4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FAC-6D64-4112-AE15-B4FEAEB7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B7A-34DA-468B-8974-866E0CF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C24-C240-4053-A367-DE88120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51D-D76E-46E2-9F5B-DEB94FA5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371-8DB7-465C-A1F2-25CB3EAF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A1F4-09B5-4925-8F17-57C01CF35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Condensed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8088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 Condensed"/>
              </a:rPr>
              <a:t>Kaley Brudner Presen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ench Script MT"/>
              </a:rPr>
              <a:t>Para el Desayuno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ench Script MT"/>
              </a:rPr>
              <a:t>Los Huevos con Qu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167652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648320"/>
            <a:ext cx="2590920" cy="1725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40384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962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nch Script MT"/>
              </a:rPr>
              <a:t>El To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2800080" cy="1765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nch Script MT"/>
              </a:rPr>
              <a:t>El 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267080" y="5029200"/>
            <a:ext cx="2210040" cy="165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4495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ench Script MT"/>
              </a:rPr>
              <a:t>Las Fru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162920" y="3657600"/>
            <a:ext cx="1847880" cy="247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63244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ench Script MT"/>
              </a:rPr>
              <a:t>La zumo de na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bcac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doni PosterCompressed"/>
              </a:rPr>
              <a:t>Para  el  Almuerzo  me  gusta  comer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PosterCompressed"/>
              </a:rPr>
              <a:t>El  Hot 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700360" cy="179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2900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PosterCompressed"/>
              </a:rPr>
              <a:t>Las  Papas  F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38098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doni PosterCompressed"/>
              </a:rPr>
              <a:t>El  botido  de 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62720" y="4862520"/>
            <a:ext cx="1981080" cy="180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772400" y="6324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doni PosterCompressed"/>
              </a:rPr>
              <a:t>El  bocad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086600" y="1676520"/>
            <a:ext cx="1714680" cy="190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96080" y="12952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1295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doni PosterCompressed"/>
              </a:rPr>
              <a:t>las  Zana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 Ext Condensed Bold"/>
              </a:rPr>
              <a:t>Para la Cena me gusta comer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 Ext Condensed Bold"/>
              </a:rPr>
              <a:t>La Ca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2476800" cy="185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76520" y="3886200"/>
            <a:ext cx="342900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4952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 Ext Condensed Bold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Gill Sans MT Ext Condensed Bold"/>
              </a:rPr>
              <a:t>ma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419720" y="1752480"/>
            <a:ext cx="2666880" cy="1860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62920" y="2438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 Ext Condensed Bold"/>
              </a:rPr>
              <a:t>El Arr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257800" y="3809880"/>
            <a:ext cx="2781360" cy="1852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153280" y="4419720"/>
            <a:ext cx="76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 Ext Condensed Bold"/>
              </a:rPr>
              <a:t>El Pes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238880" y="5851440"/>
            <a:ext cx="1676520" cy="100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15000" y="6248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 Ext Condensed Bold"/>
              </a:rPr>
              <a:t>Una Coca-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4e0ae"/>
                </a:solidFill>
                <a:latin typeface="Script MT Bold"/>
              </a:rPr>
              <a:t>El Po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4e0ae"/>
                </a:solidFill>
                <a:latin typeface="Script MT Bold"/>
              </a:rPr>
              <a:t>El Mousse de 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2590560" cy="244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05320" y="51814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e0ae"/>
                </a:solidFill>
                <a:latin typeface="Script MT Bold"/>
              </a:rPr>
              <a:t>El Helado de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581280" y="2362320"/>
            <a:ext cx="2743200" cy="1771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267080" y="44956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4e0ae"/>
                </a:solidFill>
                <a:latin typeface="Script MT Bold"/>
              </a:rPr>
              <a:t>El Gall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791320" y="5105520"/>
            <a:ext cx="2400120" cy="1596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248520" y="4343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4e0ae"/>
                </a:solidFill>
                <a:latin typeface="Script MT Bold"/>
              </a:rPr>
              <a:t>fresas cubiertas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629400" y="1066680"/>
            <a:ext cx="2008080" cy="299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53080" y="457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e0ae"/>
                </a:solidFill>
                <a:latin typeface="Script MT Bold"/>
              </a:rPr>
              <a:t>La Leche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cbf9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illSans Condensed"/>
              </a:rPr>
              <a:t>La  Meri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133360" cy="156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2133360" cy="1904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371600" cy="123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38680" y="2057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 Condensed"/>
              </a:rPr>
              <a:t>El Cheez-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 Condensed"/>
              </a:rPr>
              <a:t>Los Do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9436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 Condensed"/>
              </a:rPr>
              <a:t>Las manz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0880" y="2209680"/>
            <a:ext cx="1781280" cy="256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 Condensed"/>
              </a:rPr>
              <a:t>El Jugo de </a:t>
            </a:r>
            <a:r>
              <a:rPr b="0" lang="es-ES" sz="1800" spc="-1" strike="noStrike">
                <a:solidFill>
                  <a:srgbClr val="ffffff"/>
                </a:solidFill>
                <a:latin typeface="Gill Sans MT Condensed"/>
              </a:rPr>
              <a:t>arándano ag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1055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42:15Z</dcterms:created>
  <dc:creator>brudnerkal</dc:creator>
  <dc:description/>
  <dc:language>en-US</dc:language>
  <cp:lastModifiedBy>brudnerkal</cp:lastModifiedBy>
  <dcterms:modified xsi:type="dcterms:W3CDTF">2012-04-04T14:42:34Z</dcterms:modified>
  <cp:revision>4</cp:revision>
  <dc:subject/>
  <dc:title>Las Comidas</dc:title>
</cp:coreProperties>
</file>